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F311-F64E-428E-A325-879058110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9A0F-82FE-4BBD-834C-2F9262A24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32B8-9F7C-4BE1-B270-00EDA9918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BB25-5255-42D1-9E01-E68FBAD77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6E4C-BF75-4C26-A6D6-498A9BE6A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05AA-28A6-47AE-AD5A-D9E27F108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8600-3895-4C7F-A7B7-106B78CE5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AF0D-0E53-4334-83DE-EBCE0F031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D8AA-DF95-47A6-92AD-23EBD83C8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EBF9-77A6-48C4-9914-96D3FEC7E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58BD-50B8-4514-9648-EC243525D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4F73-E20E-40C4-A60B-0DC82336E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503CB-9A50-4B54-920E-10472F7D64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 u="sng">
                <a:solidFill>
                  <a:srgbClr val="000000"/>
                </a:solidFill>
                <a:uFillTx/>
                <a:latin typeface="Arial"/>
              </a:rPr>
              <a:t>Big Bushy Mustache</a:t>
            </a:r>
            <a:br>
              <a:rPr sz="35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oup 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744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1. town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4744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2. house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4744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3. sour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4744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4. frown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47448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8. how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9. mouse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10. brown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11. could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-360"/>
            <a:ext cx="403848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5. cow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6. clown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7. found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48320" y="-360"/>
            <a:ext cx="449568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12. should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13. around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14. towel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 u="sng">
                <a:solidFill>
                  <a:srgbClr val="000000"/>
                </a:solidFill>
                <a:uFillTx/>
                <a:latin typeface="Arial"/>
              </a:rPr>
              <a:t>Big Bushy Mustache</a:t>
            </a:r>
            <a:br>
              <a:rPr sz="35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oup 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how 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cow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now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out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5. sour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g Bushy Mustach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oup 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0" y="1599840"/>
            <a:ext cx="4495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around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towel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frowning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playground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48320" y="1599840"/>
            <a:ext cx="4495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8. flowerbed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9. townhouse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10. thousand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11. growling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0" y="0"/>
            <a:ext cx="4572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Arial"/>
              </a:rPr>
              <a:t>5. sound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Arial"/>
              </a:rPr>
              <a:t>6. bouncing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Arial"/>
              </a:rPr>
              <a:t>7. shouted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0" y="0"/>
            <a:ext cx="4572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000000"/>
                </a:solidFill>
                <a:latin typeface="Arial"/>
              </a:rPr>
              <a:t>12. loudest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000000"/>
                </a:solidFill>
                <a:latin typeface="Arial"/>
              </a:rPr>
              <a:t>13. allowed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000000"/>
                </a:solidFill>
                <a:latin typeface="Arial"/>
              </a:rPr>
              <a:t>14. without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000000"/>
                </a:solidFill>
                <a:latin typeface="Arial"/>
              </a:rPr>
              <a:t>15. proudly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000000"/>
                </a:solidFill>
                <a:latin typeface="Arial"/>
              </a:rPr>
              <a:t>16. crowded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12:14:57Z</dcterms:created>
  <dc:creator>Kathryn.Cobb</dc:creator>
  <dc:description/>
  <dc:language>en-US</dc:language>
  <cp:lastModifiedBy>PGCPS Students</cp:lastModifiedBy>
  <cp:lastPrinted>2010-01-05T12:26:44Z</cp:lastPrinted>
  <dcterms:modified xsi:type="dcterms:W3CDTF">2010-01-05T12:26:58Z</dcterms:modified>
  <cp:revision>6</cp:revision>
  <dc:subject/>
  <dc:title>The Art Lesson Group A</dc:title>
</cp:coreProperties>
</file>